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CFE-26B0-466C-BA97-F883A7D9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D41-C163-43A2-8DEB-D3DDE06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841-FD94-4F94-A6ED-A5FCD1DD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24C-A330-4973-8720-E00A6D73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A56-14D6-480D-820C-70CE5548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DA7-5FA5-4B3A-86F7-EC852D9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537-E27B-4B1C-815F-0FFCFDD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A14-A176-48B0-8A5D-B0264AD9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8C4-25B0-4B1D-BB66-F89E6C2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A6E-05D1-4A91-8C2D-7AED7A6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A2F-8FCF-47B1-954E-D70F70B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176-B165-45D7-BD09-A50D6DE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D990A-80D5-4214-BB14-54D448530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ctions with à and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 français, bien su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a = de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e liv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 la femme célèb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’ = de 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a voi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 l’homme ric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Placeholder 10" descr=""/>
          <p:cNvPicPr/>
          <p:nvPr/>
        </p:nvPicPr>
        <p:blipFill>
          <a:blip r:embed="rId1"/>
          <a:stretch/>
        </p:blipFill>
        <p:spPr>
          <a:xfrm>
            <a:off x="2077920" y="612720"/>
            <a:ext cx="49244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 = 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a voi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u père de Jacq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s = 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a voi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s Dupo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Placeholder 4" descr=""/>
          <p:cNvPicPr/>
          <p:nvPr/>
        </p:nvPicPr>
        <p:blipFill>
          <a:blip r:embed="rId1"/>
          <a:stretch/>
        </p:blipFill>
        <p:spPr>
          <a:xfrm>
            <a:off x="2584440" y="612720"/>
            <a:ext cx="4262400" cy="3197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+ la = de 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rent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e la bibliothèq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+ l’ = de l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rent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e l’éco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Placeholder 4" descr=""/>
          <p:cNvPicPr/>
          <p:nvPr/>
        </p:nvPicPr>
        <p:blipFill>
          <a:blip r:embed="rId1"/>
          <a:stretch/>
        </p:blipFill>
        <p:spPr>
          <a:xfrm>
            <a:off x="2095560" y="839880"/>
            <a:ext cx="4146480" cy="310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 = 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rent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u restaur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Placeholder 4" descr=""/>
          <p:cNvPicPr/>
          <p:nvPr/>
        </p:nvPicPr>
        <p:blipFill>
          <a:blip r:embed="rId1"/>
          <a:stretch/>
        </p:blipFill>
        <p:spPr>
          <a:xfrm>
            <a:off x="1792440" y="1173240"/>
            <a:ext cx="4738680" cy="355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s = 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rentre des vois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’es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fil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15" descr=""/>
          <p:cNvPicPr/>
          <p:nvPr/>
        </p:nvPicPr>
        <p:blipFill>
          <a:blip r:embed="rId1"/>
          <a:stretch/>
        </p:blipFill>
        <p:spPr>
          <a:xfrm>
            <a:off x="1792440" y="4539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128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a = à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donne le cadea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a fil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’est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’ami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À + l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le donne le cadea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’ami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’es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 garç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 = 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donne le cadea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 garç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e so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s enf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s = 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donne les cadeaux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 enf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 . . . La bibliothè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a = à 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a bibliothè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. . . L’éc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’ = à 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’éc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. . . Le restaur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 = 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 restaur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. . . Les is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s = 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 is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23:42:41Z</dcterms:created>
  <dc:creator>John Chapman</dc:creator>
  <dc:description/>
  <dc:language>en-US</dc:language>
  <cp:lastModifiedBy>John Chapman</cp:lastModifiedBy>
  <dcterms:modified xsi:type="dcterms:W3CDTF">2012-03-29T01:10:10Z</dcterms:modified>
  <cp:revision>9</cp:revision>
  <dc:subject/>
  <dc:title>Contractions with à and de</dc:title>
</cp:coreProperties>
</file>